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D1D-8CC7-4C36-B353-F0EE6F46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89D-D538-47A6-8B8C-EA3ED2D5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4D6-F74E-4392-B1FE-3A1C0264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758-2B7B-4721-99E3-FED52823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2A7-650E-49D3-BC97-5FB01F0F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F05-66C7-4F60-98BB-4722222A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336-E573-456E-B463-EA6AE112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A6E-EDB7-4C6A-A660-5815E500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C10-A7AD-45C1-89E9-A9072B5E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3F4-C696-4786-9AE6-72F7B907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CFD-4FBC-4EAB-A009-82E773D4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1AC-27D2-42DA-8101-F5F85B4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66A6-6D50-4F3D-BCB8-F9B2F7610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o la tecnología contribuye en lo industrial al mejoramiento de vida?”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er. Parcial Leer y Escribir en el Laberinto Tecnológ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los nuevos procesos de producción se ha disminuido la distancia entre los conocimientos científicos y su explotación comerci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3284280"/>
            <a:ext cx="402732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 producción que se diversifica y se sobrepone a los obstáculos técnicos para estar en condiciones de responder a la nueva y exigente deman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64240" y="3284640"/>
            <a:ext cx="37940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evos conocimientos, Mas Cambi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constantes los nuevos conocimientos para la producción de nuevos avances y descubrimientos. Los cambios producen más cambios y además se acelera la generación de tecnología adaptada a la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nología es todo "el conjunto de conocimientos propios de los oficios mecánicos y artes industriales". Las grandes fábricas modernas, con sus complicados mecanismos y los procedimientos industriales que en ellas se desarrollan, son el exponente del progreso tecnológico.  (http://www.url.edu.gt/PortalURL/Archivos/83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enest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ecnología se ha desarrollado maravillosamente y ha permitido que seamos más longevos, se mejoren los sistemas de salud y que hayan avanzado los métodos de producción y distribución de  cosechas, ropa, servicios etc. La tecnología también ha contribuido al desarrollo de nuevas técnicas de fabricación y ha hecho que las comunicaciones y el transporte sean más rápidos y efic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1:10Z</dcterms:created>
  <dc:creator>dpenaranda</dc:creator>
  <dc:description/>
  <dc:language>en-US</dc:language>
  <cp:lastModifiedBy>dpenaranda</cp:lastModifiedBy>
  <dcterms:modified xsi:type="dcterms:W3CDTF">2011-02-27T15:40:16Z</dcterms:modified>
  <cp:revision>2</cp:revision>
  <dc:subject/>
  <dc:title>   “Como la tecnología contribuye en lo industrial al mejoramiento de vida?”.  </dc:title>
</cp:coreProperties>
</file>